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F102DD-AB19-4E1E-AC14-908B7F107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EE5945-2E83-4085-95D7-2B6B9435B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A4D2AC-1401-4BF9-A96C-74201CF62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FE0D41-0892-4B83-9B65-EA52576E9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72530A-1AA4-42D5-91F5-AA7932F77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97C807-98B2-48DE-BBFD-7854807D1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F1FD6B-92D0-4179-8AD9-93DFC375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BF8948-02CC-410A-8ED7-C3E31822E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2AA563-B633-4125-A217-66B34509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633317-CE37-4312-B9AF-AC6D9A996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0D0206-5658-4213-BF04-C33AA7BF7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CE3430-7491-4841-BFD3-DDD9F0F45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1.png"/><Relationship Id="rId30" Type="http://schemas.openxmlformats.org/officeDocument/2006/relationships/image" Target="../media/image1.png"/><Relationship Id="rId31" Type="http://schemas.openxmlformats.org/officeDocument/2006/relationships/image" Target="../media/image1.png"/><Relationship Id="rId32" Type="http://schemas.openxmlformats.org/officeDocument/2006/relationships/image" Target="../media/image1.png"/><Relationship Id="rId33" Type="http://schemas.openxmlformats.org/officeDocument/2006/relationships/image" Target="../media/image1.png"/><Relationship Id="rId34" Type="http://schemas.openxmlformats.org/officeDocument/2006/relationships/image" Target="../media/image1.png"/><Relationship Id="rId35" Type="http://schemas.openxmlformats.org/officeDocument/2006/relationships/image" Target="../media/image1.png"/><Relationship Id="rId36" Type="http://schemas.openxmlformats.org/officeDocument/2006/relationships/image" Target="../media/image1.png"/><Relationship Id="rId37" Type="http://schemas.openxmlformats.org/officeDocument/2006/relationships/image" Target="../media/image1.png"/><Relationship Id="rId38" Type="http://schemas.openxmlformats.org/officeDocument/2006/relationships/image" Target="../media/image1.png"/><Relationship Id="rId39" Type="http://schemas.openxmlformats.org/officeDocument/2006/relationships/image" Target="../media/image1.png"/><Relationship Id="rId40" Type="http://schemas.openxmlformats.org/officeDocument/2006/relationships/image" Target="../media/image1.png"/><Relationship Id="rId41" Type="http://schemas.openxmlformats.org/officeDocument/2006/relationships/image" Target="../media/image1.png"/><Relationship Id="rId42" Type="http://schemas.openxmlformats.org/officeDocument/2006/relationships/image" Target="../media/image1.png"/><Relationship Id="rId43" Type="http://schemas.openxmlformats.org/officeDocument/2006/relationships/image" Target="../media/image1.png"/><Relationship Id="rId44" Type="http://schemas.openxmlformats.org/officeDocument/2006/relationships/image" Target="../media/image1.png"/><Relationship Id="rId45" Type="http://schemas.openxmlformats.org/officeDocument/2006/relationships/image" Target="../media/image1.png"/><Relationship Id="rId46" Type="http://schemas.openxmlformats.org/officeDocument/2006/relationships/image" Target="../media/image1.png"/><Relationship Id="rId47" Type="http://schemas.openxmlformats.org/officeDocument/2006/relationships/image" Target="../media/image1.png"/><Relationship Id="rId48" Type="http://schemas.openxmlformats.org/officeDocument/2006/relationships/image" Target="../media/image1.png"/><Relationship Id="rId49" Type="http://schemas.openxmlformats.org/officeDocument/2006/relationships/image" Target="../media/image1.png"/><Relationship Id="rId50" Type="http://schemas.openxmlformats.org/officeDocument/2006/relationships/image" Target="../media/image1.png"/><Relationship Id="rId51" Type="http://schemas.openxmlformats.org/officeDocument/2006/relationships/image" Target="../media/image1.png"/><Relationship Id="rId52" Type="http://schemas.openxmlformats.org/officeDocument/2006/relationships/image" Target="../media/image1.png"/><Relationship Id="rId53" Type="http://schemas.openxmlformats.org/officeDocument/2006/relationships/image" Target="../media/image1.png"/><Relationship Id="rId54" Type="http://schemas.openxmlformats.org/officeDocument/2006/relationships/image" Target="../media/image1.png"/><Relationship Id="rId55" Type="http://schemas.openxmlformats.org/officeDocument/2006/relationships/image" Target="../media/image1.png"/><Relationship Id="rId56" Type="http://schemas.openxmlformats.org/officeDocument/2006/relationships/image" Target="../media/image1.png"/><Relationship Id="rId57" Type="http://schemas.openxmlformats.org/officeDocument/2006/relationships/image" Target="../media/image1.png"/><Relationship Id="rId58" Type="http://schemas.openxmlformats.org/officeDocument/2006/relationships/image" Target="../media/image1.png"/><Relationship Id="rId59" Type="http://schemas.openxmlformats.org/officeDocument/2006/relationships/image" Target="../media/image1.png"/><Relationship Id="rId60" Type="http://schemas.openxmlformats.org/officeDocument/2006/relationships/image" Target="../media/image1.png"/><Relationship Id="rId61" Type="http://schemas.openxmlformats.org/officeDocument/2006/relationships/image" Target="../media/image1.png"/><Relationship Id="rId62" Type="http://schemas.openxmlformats.org/officeDocument/2006/relationships/slideLayout" Target="../slideLayouts/slideLayout13.xml"/><Relationship Id="rId63" Type="http://schemas.openxmlformats.org/officeDocument/2006/relationships/slideLayout" Target="../slideLayouts/slideLayout14.xml"/><Relationship Id="rId64" Type="http://schemas.openxmlformats.org/officeDocument/2006/relationships/slideLayout" Target="../slideLayouts/slideLayout15.xml"/><Relationship Id="rId65" Type="http://schemas.openxmlformats.org/officeDocument/2006/relationships/slideLayout" Target="../slideLayouts/slideLayout16.xml"/><Relationship Id="rId66" Type="http://schemas.openxmlformats.org/officeDocument/2006/relationships/slideLayout" Target="../slideLayouts/slideLayout17.xml"/><Relationship Id="rId67" Type="http://schemas.openxmlformats.org/officeDocument/2006/relationships/slideLayout" Target="../slideLayouts/slideLayout18.xml"/><Relationship Id="rId68" Type="http://schemas.openxmlformats.org/officeDocument/2006/relationships/slideLayout" Target="../slideLayouts/slideLayout19.xml"/><Relationship Id="rId69" Type="http://schemas.openxmlformats.org/officeDocument/2006/relationships/slideLayout" Target="../slideLayouts/slideLayout20.xml"/><Relationship Id="rId70" Type="http://schemas.openxmlformats.org/officeDocument/2006/relationships/slideLayout" Target="../slideLayouts/slideLayout21.xml"/><Relationship Id="rId71" Type="http://schemas.openxmlformats.org/officeDocument/2006/relationships/slideLayout" Target="../slideLayouts/slideLayout22.xml"/><Relationship Id="rId72" Type="http://schemas.openxmlformats.org/officeDocument/2006/relationships/slideLayout" Target="../slideLayouts/slideLayout23.xml"/><Relationship Id="rId7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0"/>
            <a:ext cx="83818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16120"/>
            <a:ext cx="6950160" cy="7452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14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2 dec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TD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19720" y="6369480"/>
            <a:ext cx="1295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5CE73-0201-4651-BA2E-D7CFABA7957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-3240" y="-9360"/>
            <a:ext cx="9068040" cy="6867360"/>
            <a:chOff x="-3240" y="-9360"/>
            <a:chExt cx="9068040" cy="6867360"/>
          </a:xfrm>
        </p:grpSpPr>
        <p:sp>
          <p:nvSpPr>
            <p:cNvPr id="44" name=""/>
            <p:cNvSpPr/>
            <p:nvPr/>
          </p:nvSpPr>
          <p:spPr>
            <a:xfrm>
              <a:off x="-3240" y="-9360"/>
              <a:ext cx="7632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400" y="0"/>
              <a:ext cx="75960" cy="68580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01680" y="0"/>
              <a:ext cx="76320" cy="68580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3960" y="0"/>
              <a:ext cx="76320" cy="68580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06600" y="0"/>
              <a:ext cx="75960" cy="68580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58880" y="0"/>
              <a:ext cx="76320" cy="685800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911160" y="0"/>
              <a:ext cx="76320" cy="68580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063800" y="0"/>
              <a:ext cx="75960" cy="68580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0"/>
              <a:ext cx="76320" cy="68580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368360" y="0"/>
              <a:ext cx="76320" cy="68580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521000" y="0"/>
              <a:ext cx="75960" cy="68580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673280" y="0"/>
              <a:ext cx="76320" cy="685800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25560" y="0"/>
              <a:ext cx="76320" cy="685800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978200" y="0"/>
              <a:ext cx="75960" cy="685800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30480" y="0"/>
              <a:ext cx="76320" cy="6858000"/>
            </a:xfrm>
            <a:prstGeom prst="rect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2760" y="0"/>
              <a:ext cx="76320" cy="6858000"/>
            </a:xfrm>
            <a:prstGeom prst="rect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435400" y="0"/>
              <a:ext cx="75960" cy="6858000"/>
            </a:xfrm>
            <a:prstGeom prst="rect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587680" y="0"/>
              <a:ext cx="76320" cy="6858000"/>
            </a:xfrm>
            <a:prstGeom prst="rect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739960" y="0"/>
              <a:ext cx="76320" cy="6858000"/>
            </a:xfrm>
            <a:prstGeom prst="rect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92600" y="0"/>
              <a:ext cx="75960" cy="6858000"/>
            </a:xfrm>
            <a:prstGeom prst="rect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044880" y="0"/>
              <a:ext cx="76320" cy="6858000"/>
            </a:xfrm>
            <a:prstGeom prst="rect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197160" y="0"/>
              <a:ext cx="76320" cy="6858000"/>
            </a:xfrm>
            <a:prstGeom prst="rect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349800" y="0"/>
              <a:ext cx="75960" cy="6858000"/>
            </a:xfrm>
            <a:prstGeom prst="rect">
              <a:avLst/>
            </a:prstGeom>
            <a:blipFill rotWithShape="0">
              <a:blip r:embed="rId2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02080" y="0"/>
              <a:ext cx="76320" cy="6858000"/>
            </a:xfrm>
            <a:prstGeom prst="rect">
              <a:avLst/>
            </a:prstGeom>
            <a:blipFill rotWithShape="0">
              <a:blip r:embed="rId2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654360" y="0"/>
              <a:ext cx="76320" cy="6858000"/>
            </a:xfrm>
            <a:prstGeom prst="rect">
              <a:avLst/>
            </a:prstGeom>
            <a:blipFill rotWithShape="0">
              <a:blip r:embed="rId2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807000" y="0"/>
              <a:ext cx="75960" cy="6858000"/>
            </a:xfrm>
            <a:prstGeom prst="rect">
              <a:avLst/>
            </a:prstGeom>
            <a:blipFill rotWithShape="0">
              <a:blip r:embed="rId2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959280" y="0"/>
              <a:ext cx="76320" cy="6858000"/>
            </a:xfrm>
            <a:prstGeom prst="rect">
              <a:avLst/>
            </a:prstGeom>
            <a:blipFill rotWithShape="0">
              <a:blip r:embed="rId2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11560" y="0"/>
              <a:ext cx="76320" cy="6858000"/>
            </a:xfrm>
            <a:prstGeom prst="rect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264200" y="0"/>
              <a:ext cx="75960" cy="6858000"/>
            </a:xfrm>
            <a:prstGeom prst="rect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6480" y="0"/>
              <a:ext cx="76320" cy="6858000"/>
            </a:xfrm>
            <a:prstGeom prst="rect">
              <a:avLst/>
            </a:prstGeom>
            <a:blipFill rotWithShape="0">
              <a:blip r:embed="rId3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568760" y="0"/>
              <a:ext cx="76320" cy="6858000"/>
            </a:xfrm>
            <a:prstGeom prst="rect">
              <a:avLst/>
            </a:prstGeom>
            <a:blipFill rotWithShape="0">
              <a:blip r:embed="rId3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21400" y="0"/>
              <a:ext cx="75960" cy="6858000"/>
            </a:xfrm>
            <a:prstGeom prst="rect">
              <a:avLst/>
            </a:prstGeom>
            <a:blipFill rotWithShape="0">
              <a:blip r:embed="rId3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3680" y="0"/>
              <a:ext cx="76320" cy="6858000"/>
            </a:xfrm>
            <a:prstGeom prst="rect">
              <a:avLst/>
            </a:prstGeom>
            <a:blipFill rotWithShape="0">
              <a:blip r:embed="rId3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025960" y="0"/>
              <a:ext cx="76320" cy="6858000"/>
            </a:xfrm>
            <a:prstGeom prst="rect">
              <a:avLst/>
            </a:prstGeom>
            <a:blipFill rotWithShape="0">
              <a:blip r:embed="rId3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178600" y="0"/>
              <a:ext cx="75960" cy="6858000"/>
            </a:xfrm>
            <a:prstGeom prst="rect">
              <a:avLst/>
            </a:prstGeom>
            <a:blipFill rotWithShape="0">
              <a:blip r:embed="rId3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330880" y="0"/>
              <a:ext cx="76320" cy="6858000"/>
            </a:xfrm>
            <a:prstGeom prst="rect">
              <a:avLst/>
            </a:prstGeom>
            <a:blipFill rotWithShape="0">
              <a:blip r:embed="rId3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483160" y="0"/>
              <a:ext cx="76320" cy="6858000"/>
            </a:xfrm>
            <a:prstGeom prst="rect">
              <a:avLst/>
            </a:prstGeom>
            <a:blipFill rotWithShape="0">
              <a:blip r:embed="rId3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635800" y="0"/>
              <a:ext cx="75960" cy="6858000"/>
            </a:xfrm>
            <a:prstGeom prst="rect">
              <a:avLst/>
            </a:prstGeom>
            <a:blipFill rotWithShape="0">
              <a:blip r:embed="rId3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88080" y="0"/>
              <a:ext cx="76320" cy="6858000"/>
            </a:xfrm>
            <a:prstGeom prst="rect">
              <a:avLst/>
            </a:prstGeom>
            <a:blipFill rotWithShape="0">
              <a:blip r:embed="rId4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40360" y="0"/>
              <a:ext cx="76320" cy="6858000"/>
            </a:xfrm>
            <a:prstGeom prst="rect">
              <a:avLst/>
            </a:prstGeom>
            <a:blipFill rotWithShape="0">
              <a:blip r:embed="rId4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093000" y="0"/>
              <a:ext cx="75960" cy="6858000"/>
            </a:xfrm>
            <a:prstGeom prst="rect">
              <a:avLst/>
            </a:prstGeom>
            <a:blipFill rotWithShape="0">
              <a:blip r:embed="rId4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45280" y="0"/>
              <a:ext cx="76320" cy="6858000"/>
            </a:xfrm>
            <a:prstGeom prst="rect">
              <a:avLst/>
            </a:prstGeom>
            <a:blipFill rotWithShape="0">
              <a:blip r:embed="rId4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97560" y="0"/>
              <a:ext cx="76320" cy="6858000"/>
            </a:xfrm>
            <a:prstGeom prst="rect">
              <a:avLst/>
            </a:prstGeom>
            <a:blipFill rotWithShape="0">
              <a:blip r:embed="rId4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550200" y="0"/>
              <a:ext cx="75960" cy="6858000"/>
            </a:xfrm>
            <a:prstGeom prst="rect">
              <a:avLst/>
            </a:prstGeom>
            <a:blipFill rotWithShape="0">
              <a:blip r:embed="rId4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702480" y="0"/>
              <a:ext cx="76320" cy="6858000"/>
            </a:xfrm>
            <a:prstGeom prst="rect">
              <a:avLst/>
            </a:prstGeom>
            <a:blipFill rotWithShape="0">
              <a:blip r:embed="rId4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854760" y="0"/>
              <a:ext cx="76320" cy="6858000"/>
            </a:xfrm>
            <a:prstGeom prst="rect">
              <a:avLst/>
            </a:prstGeom>
            <a:blipFill rotWithShape="0">
              <a:blip r:embed="rId4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007400" y="0"/>
              <a:ext cx="75960" cy="6858000"/>
            </a:xfrm>
            <a:prstGeom prst="rect">
              <a:avLst/>
            </a:prstGeom>
            <a:blipFill rotWithShape="0">
              <a:blip r:embed="rId4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159680" y="0"/>
              <a:ext cx="76320" cy="6858000"/>
            </a:xfrm>
            <a:prstGeom prst="rect">
              <a:avLst/>
            </a:prstGeom>
            <a:blipFill rotWithShape="0">
              <a:blip r:embed="rId4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311960" y="0"/>
              <a:ext cx="76320" cy="6858000"/>
            </a:xfrm>
            <a:prstGeom prst="rect">
              <a:avLst/>
            </a:prstGeom>
            <a:blipFill rotWithShape="0">
              <a:blip r:embed="rId5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464600" y="0"/>
              <a:ext cx="75960" cy="6858000"/>
            </a:xfrm>
            <a:prstGeom prst="rect">
              <a:avLst/>
            </a:prstGeom>
            <a:blipFill rotWithShape="0">
              <a:blip r:embed="rId5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616880" y="0"/>
              <a:ext cx="76320" cy="6858000"/>
            </a:xfrm>
            <a:prstGeom prst="rect">
              <a:avLst/>
            </a:prstGeom>
            <a:blipFill rotWithShape="0">
              <a:blip r:embed="rId5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769160" y="0"/>
              <a:ext cx="76320" cy="6858000"/>
            </a:xfrm>
            <a:prstGeom prst="rect">
              <a:avLst/>
            </a:prstGeom>
            <a:blipFill rotWithShape="0">
              <a:blip r:embed="rId5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921800" y="0"/>
              <a:ext cx="75960" cy="6858000"/>
            </a:xfrm>
            <a:prstGeom prst="rect">
              <a:avLst/>
            </a:prstGeom>
            <a:blipFill rotWithShape="0">
              <a:blip r:embed="rId5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74080" y="0"/>
              <a:ext cx="76320" cy="6858000"/>
            </a:xfrm>
            <a:prstGeom prst="rect">
              <a:avLst/>
            </a:prstGeom>
            <a:blipFill rotWithShape="0">
              <a:blip r:embed="rId5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226360" y="0"/>
              <a:ext cx="76320" cy="6858000"/>
            </a:xfrm>
            <a:prstGeom prst="rect">
              <a:avLst/>
            </a:prstGeom>
            <a:blipFill rotWithShape="0">
              <a:blip r:embed="rId5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79000" y="0"/>
              <a:ext cx="75960" cy="6858000"/>
            </a:xfrm>
            <a:prstGeom prst="rect">
              <a:avLst/>
            </a:prstGeom>
            <a:blipFill rotWithShape="0">
              <a:blip r:embed="rId5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531280" y="0"/>
              <a:ext cx="76320" cy="6858000"/>
            </a:xfrm>
            <a:prstGeom prst="rect">
              <a:avLst/>
            </a:prstGeom>
            <a:blipFill rotWithShape="0">
              <a:blip r:embed="rId5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683560" y="0"/>
              <a:ext cx="76320" cy="6858000"/>
            </a:xfrm>
            <a:prstGeom prst="rect">
              <a:avLst/>
            </a:prstGeom>
            <a:blipFill rotWithShape="0">
              <a:blip r:embed="rId5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836200" y="0"/>
              <a:ext cx="75960" cy="6858000"/>
            </a:xfrm>
            <a:prstGeom prst="rect">
              <a:avLst/>
            </a:prstGeom>
            <a:blipFill rotWithShape="0">
              <a:blip r:embed="rId6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988480" y="0"/>
              <a:ext cx="76320" cy="6858000"/>
            </a:xfrm>
            <a:prstGeom prst="rect">
              <a:avLst/>
            </a:prstGeom>
            <a:blipFill rotWithShape="0">
              <a:blip r:embed="rId6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762120" y="0"/>
            <a:ext cx="83818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-9360"/>
            <a:ext cx="9144000" cy="50940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2 dec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ftr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TD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sldNum" idx="5"/>
          </p:nvPr>
        </p:nvSpPr>
        <p:spPr>
          <a:xfrm>
            <a:off x="3581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39626-05B0-4635-B974-C7FC91CDA10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2"/>
    <p:sldLayoutId id="2147483663" r:id="rId63"/>
    <p:sldLayoutId id="2147483664" r:id="rId64"/>
    <p:sldLayoutId id="2147483665" r:id="rId65"/>
    <p:sldLayoutId id="2147483666" r:id="rId66"/>
    <p:sldLayoutId id="2147483667" r:id="rId67"/>
    <p:sldLayoutId id="2147483668" r:id="rId68"/>
    <p:sldLayoutId id="2147483669" r:id="rId69"/>
    <p:sldLayoutId id="2147483670" r:id="rId70"/>
    <p:sldLayoutId id="2147483671" r:id="rId71"/>
    <p:sldLayoutId id="2147483672" r:id="rId72"/>
    <p:sldLayoutId id="2147483673" r:id="rId7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1760" y="1188720"/>
            <a:ext cx="784836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Verdana"/>
              </a:rPr>
              <a:t>Location Transparent Routing in Mobile Agent Systems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533160" y="2895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rging Name Lookups &amp; Rou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733920"/>
            <a:ext cx="85345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rner Van Bel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arsten Verel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o D’Hond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gramming Technology Lab (PRO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artement Computer Science (DIN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rije Universiteit Brussel (VU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Notifying Partner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3" name=""/>
          <p:cNvSpPr/>
          <p:nvPr/>
        </p:nvSpPr>
        <p:spPr>
          <a:xfrm>
            <a:off x="1600200" y="2362320"/>
            <a:ext cx="1066680" cy="9903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172200" y="2362320"/>
            <a:ext cx="106668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143000" y="4952880"/>
            <a:ext cx="1066680" cy="99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133720" y="3124080"/>
            <a:ext cx="4114800" cy="19814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248520" y="4191120"/>
            <a:ext cx="106668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10760" y="4569480"/>
            <a:ext cx="13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 ms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1981080"/>
            <a:ext cx="1067040" cy="9907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22080" y="22071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2000" y="2054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74000" y="3960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92880" y="4721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1880" y="25120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01280" y="2588400"/>
            <a:ext cx="96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a -&gt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96720" y="5025960"/>
            <a:ext cx="81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b</a:t>
            </a:r>
            <a:br>
              <a:rPr sz="2400"/>
            </a:b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a-&gt;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16240" y="18262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344480" y="2207160"/>
            <a:ext cx="96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a -&gt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Notifying Partner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0" name=""/>
          <p:cNvSpPr/>
          <p:nvPr/>
        </p:nvSpPr>
        <p:spPr>
          <a:xfrm>
            <a:off x="1600200" y="2362320"/>
            <a:ext cx="1066680" cy="9903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172200" y="2362320"/>
            <a:ext cx="106668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143000" y="4952880"/>
            <a:ext cx="1066680" cy="99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133720" y="3124080"/>
            <a:ext cx="4114800" cy="19814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248520" y="4191120"/>
            <a:ext cx="106668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10760" y="4569480"/>
            <a:ext cx="13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 ms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267080" y="1981080"/>
            <a:ext cx="1067040" cy="9907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2209680" y="2895480"/>
            <a:ext cx="5171040" cy="2514600"/>
            <a:chOff x="2209680" y="2895480"/>
            <a:chExt cx="5171040" cy="2514600"/>
          </a:xfrm>
        </p:grpSpPr>
        <p:grpSp>
          <p:nvGrpSpPr>
            <p:cNvPr id="228" name=""/>
            <p:cNvGrpSpPr/>
            <p:nvPr/>
          </p:nvGrpSpPr>
          <p:grpSpPr>
            <a:xfrm>
              <a:off x="6232320" y="3352680"/>
              <a:ext cx="1148400" cy="838440"/>
              <a:chOff x="6232320" y="3352680"/>
              <a:chExt cx="1148400" cy="838440"/>
            </a:xfrm>
          </p:grpSpPr>
          <p:sp>
            <p:nvSpPr>
              <p:cNvPr id="229" name=""/>
              <p:cNvSpPr/>
              <p:nvPr/>
            </p:nvSpPr>
            <p:spPr>
              <a:xfrm>
                <a:off x="6781680" y="3352680"/>
                <a:ext cx="0" cy="8384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232320" y="3396240"/>
                <a:ext cx="1148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Migrat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2209680" y="2895480"/>
              <a:ext cx="4114800" cy="2514600"/>
              <a:chOff x="2209680" y="2895480"/>
              <a:chExt cx="4114800" cy="2514600"/>
            </a:xfrm>
          </p:grpSpPr>
          <p:sp>
            <p:nvSpPr>
              <p:cNvPr id="232" name=""/>
              <p:cNvSpPr/>
              <p:nvPr/>
            </p:nvSpPr>
            <p:spPr>
              <a:xfrm flipH="1">
                <a:off x="2209680" y="4800600"/>
                <a:ext cx="4114800" cy="6094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952880" y="3882240"/>
                <a:ext cx="126576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end </a:t>
                </a:r>
                <a:br>
                  <a:rPr sz="2400"/>
                </a:b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Location</a:t>
                </a:r>
                <a:br>
                  <a:rPr sz="2400"/>
                </a:b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pdat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 flipV="1">
                <a:off x="2666520" y="3047760"/>
                <a:ext cx="3581640" cy="15238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H="1" flipV="1">
                <a:off x="5105520" y="2895480"/>
                <a:ext cx="1218960" cy="15242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6" name=""/>
          <p:cNvSpPr/>
          <p:nvPr/>
        </p:nvSpPr>
        <p:spPr>
          <a:xfrm>
            <a:off x="6022080" y="22071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2000" y="2054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4000" y="3960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92880" y="4721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478200" y="43408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01280" y="2588400"/>
            <a:ext cx="94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a -&gt;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296360" y="5025960"/>
            <a:ext cx="79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b</a:t>
            </a:r>
            <a:br>
              <a:rPr sz="2400"/>
            </a:b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a-&gt;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16240" y="18262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344480" y="2207160"/>
            <a:ext cx="94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a -&gt;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Notifying Partner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esn’t require a special architect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itable for fine grained secure syste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a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ossible to know all possible communication partn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ormous overhead with popular ag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Notifying Partner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ssage send:  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 over network to reach (nearby) communication partn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gent move: (C+1)t + [T]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 needed to update all communication partn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 needed to migrate to new pos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[Time needed to update name server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Name Serving &amp; Routing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0" name=""/>
          <p:cNvSpPr/>
          <p:nvPr/>
        </p:nvSpPr>
        <p:spPr>
          <a:xfrm>
            <a:off x="6172200" y="2362320"/>
            <a:ext cx="106668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143000" y="4114800"/>
            <a:ext cx="1066680" cy="99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133720" y="4343400"/>
            <a:ext cx="4114800" cy="304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248520" y="4191120"/>
            <a:ext cx="106668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277800" y="4188600"/>
            <a:ext cx="13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 ms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990720" y="2286000"/>
            <a:ext cx="15238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1523880" y="3124080"/>
            <a:ext cx="0" cy="9907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1752480" y="3124080"/>
            <a:ext cx="0" cy="99072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066680" y="342648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tch ad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22080" y="22071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174000" y="3960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992880" y="3883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478200" y="43408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068480" y="2282760"/>
            <a:ext cx="97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b -&gt; A</a:t>
            </a:r>
            <a:br>
              <a:rPr sz="2400"/>
            </a:b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a -&gt;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373400" y="4264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Name Serving &amp; Routing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6" name=""/>
          <p:cNvSpPr/>
          <p:nvPr/>
        </p:nvSpPr>
        <p:spPr>
          <a:xfrm>
            <a:off x="6172200" y="2362320"/>
            <a:ext cx="106668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143000" y="4114800"/>
            <a:ext cx="1066680" cy="99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133720" y="4343400"/>
            <a:ext cx="4114800" cy="304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248520" y="4191120"/>
            <a:ext cx="106668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277800" y="4188600"/>
            <a:ext cx="13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 ms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990720" y="2286000"/>
            <a:ext cx="15238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1523880" y="3124080"/>
            <a:ext cx="0" cy="9907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1752480" y="3124080"/>
            <a:ext cx="0" cy="99072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066680" y="342648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tch ad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2514600" y="2282760"/>
            <a:ext cx="4866120" cy="1908360"/>
            <a:chOff x="2514600" y="2282760"/>
            <a:chExt cx="4866120" cy="1908360"/>
          </a:xfrm>
        </p:grpSpPr>
        <p:sp>
          <p:nvSpPr>
            <p:cNvPr id="276" name=""/>
            <p:cNvSpPr/>
            <p:nvPr/>
          </p:nvSpPr>
          <p:spPr>
            <a:xfrm>
              <a:off x="6232320" y="3396240"/>
              <a:ext cx="114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igr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2514600" y="2282760"/>
              <a:ext cx="4267080" cy="1908360"/>
              <a:chOff x="2514600" y="2282760"/>
              <a:chExt cx="4267080" cy="1908360"/>
            </a:xfrm>
          </p:grpSpPr>
          <p:sp>
            <p:nvSpPr>
              <p:cNvPr id="278" name=""/>
              <p:cNvSpPr/>
              <p:nvPr/>
            </p:nvSpPr>
            <p:spPr>
              <a:xfrm>
                <a:off x="6781680" y="3352680"/>
                <a:ext cx="0" cy="8384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9" name=""/>
              <p:cNvGrpSpPr/>
              <p:nvPr/>
            </p:nvGrpSpPr>
            <p:grpSpPr>
              <a:xfrm>
                <a:off x="2514600" y="2282760"/>
                <a:ext cx="3657600" cy="825480"/>
                <a:chOff x="2514600" y="2282760"/>
                <a:chExt cx="3657600" cy="825480"/>
              </a:xfrm>
            </p:grpSpPr>
            <p:sp>
              <p:nvSpPr>
                <p:cNvPr id="280" name=""/>
                <p:cNvSpPr/>
                <p:nvPr/>
              </p:nvSpPr>
              <p:spPr>
                <a:xfrm flipH="1" flipV="1">
                  <a:off x="2514600" y="2514240"/>
                  <a:ext cx="3657600" cy="30492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3504600" y="2282760"/>
                  <a:ext cx="192708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Send location </a:t>
                  </a:r>
                  <a:br>
                    <a:rPr sz="2400"/>
                  </a:b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updat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82" name=""/>
          <p:cNvSpPr/>
          <p:nvPr/>
        </p:nvSpPr>
        <p:spPr>
          <a:xfrm>
            <a:off x="6022080" y="22071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174000" y="3960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992880" y="3883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401880" y="25120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068480" y="2282760"/>
            <a:ext cx="97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b -&gt; A</a:t>
            </a:r>
            <a:br>
              <a:rPr sz="2400"/>
            </a:b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a -&gt;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373400" y="4264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Name Serving &amp; Routing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asy implemen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outing mechanism is independent of naming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a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updates are slo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lookups are slo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Name Serving &amp; routing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ssage send: T + 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okup na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nd mess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gent move: T + 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pdate na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grate ag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Name Serving/Caching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>
            <a:off x="6172200" y="2362320"/>
            <a:ext cx="106668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143000" y="4114800"/>
            <a:ext cx="1066680" cy="99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2209680" y="4495680"/>
            <a:ext cx="2667240" cy="990720"/>
            <a:chOff x="2209680" y="4495680"/>
            <a:chExt cx="2667240" cy="990720"/>
          </a:xfrm>
        </p:grpSpPr>
        <p:sp>
          <p:nvSpPr>
            <p:cNvPr id="296" name=""/>
            <p:cNvSpPr/>
            <p:nvPr/>
          </p:nvSpPr>
          <p:spPr>
            <a:xfrm>
              <a:off x="2209680" y="4495680"/>
              <a:ext cx="2667240" cy="9907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667960" y="4721760"/>
              <a:ext cx="137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nd ms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990720" y="2286000"/>
            <a:ext cx="15238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800600" y="5257800"/>
            <a:ext cx="1066680" cy="99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22080" y="22071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107320" y="4874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068840" y="3883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068480" y="2282760"/>
            <a:ext cx="97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b -&gt; A</a:t>
            </a:r>
            <a:br>
              <a:rPr sz="2400"/>
            </a:b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a -&gt;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296360" y="4187880"/>
            <a:ext cx="79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b</a:t>
            </a:r>
            <a:br>
              <a:rPr sz="2400"/>
            </a:b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a-&gt;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106600" y="54838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Name Serving/Caching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172200" y="2362320"/>
            <a:ext cx="106668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143000" y="4114800"/>
            <a:ext cx="1066680" cy="99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09680" y="4495680"/>
            <a:ext cx="2667240" cy="9907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7960" y="4721760"/>
            <a:ext cx="13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 ms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2286000"/>
            <a:ext cx="15238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800600" y="5257800"/>
            <a:ext cx="1066680" cy="99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022080" y="22071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107320" y="4874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068840" y="3883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401880" y="25120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068480" y="2282760"/>
            <a:ext cx="97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b -&gt; A</a:t>
            </a:r>
            <a:br>
              <a:rPr sz="2400"/>
            </a:b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a -&gt;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296360" y="4187880"/>
            <a:ext cx="79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b</a:t>
            </a:r>
            <a:br>
              <a:rPr sz="2400"/>
            </a:b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a-&gt;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2514600" y="2282760"/>
            <a:ext cx="4577040" cy="3279960"/>
            <a:chOff x="2514600" y="2282760"/>
            <a:chExt cx="4577040" cy="3279960"/>
          </a:xfrm>
        </p:grpSpPr>
        <p:grpSp>
          <p:nvGrpSpPr>
            <p:cNvPr id="320" name=""/>
            <p:cNvGrpSpPr/>
            <p:nvPr/>
          </p:nvGrpSpPr>
          <p:grpSpPr>
            <a:xfrm>
              <a:off x="2514600" y="2282760"/>
              <a:ext cx="3657600" cy="825480"/>
              <a:chOff x="2514600" y="2282760"/>
              <a:chExt cx="3657600" cy="825480"/>
            </a:xfrm>
          </p:grpSpPr>
          <p:sp>
            <p:nvSpPr>
              <p:cNvPr id="321" name=""/>
              <p:cNvSpPr/>
              <p:nvPr/>
            </p:nvSpPr>
            <p:spPr>
              <a:xfrm flipH="1" flipV="1">
                <a:off x="2514600" y="2514240"/>
                <a:ext cx="365760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454200" y="2282760"/>
                <a:ext cx="20278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end Location </a:t>
                </a:r>
                <a:br>
                  <a:rPr sz="2400"/>
                </a:b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pdat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5867280" y="3352680"/>
              <a:ext cx="1224360" cy="2210040"/>
              <a:chOff x="5867280" y="3352680"/>
              <a:chExt cx="1224360" cy="2210040"/>
            </a:xfrm>
          </p:grpSpPr>
          <p:sp>
            <p:nvSpPr>
              <p:cNvPr id="324" name=""/>
              <p:cNvSpPr/>
              <p:nvPr/>
            </p:nvSpPr>
            <p:spPr>
              <a:xfrm flipH="1">
                <a:off x="5867280" y="3352680"/>
                <a:ext cx="914400" cy="22100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943240" y="4035960"/>
                <a:ext cx="1148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Migrat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Mobile Multi Agent System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Mobile Agent is an Active Autonomous Compon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le to Communicate with oth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le to Migrate to other ‘Agent Systems’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Agent system is the “Operating System” to support these compon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Name Serving/Caching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7" name=""/>
          <p:cNvSpPr/>
          <p:nvPr/>
        </p:nvSpPr>
        <p:spPr>
          <a:xfrm>
            <a:off x="6172200" y="2362320"/>
            <a:ext cx="106668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143000" y="4114800"/>
            <a:ext cx="1066680" cy="99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2209680" y="4495680"/>
            <a:ext cx="2667240" cy="990720"/>
            <a:chOff x="2209680" y="4495680"/>
            <a:chExt cx="2667240" cy="990720"/>
          </a:xfrm>
        </p:grpSpPr>
        <p:sp>
          <p:nvSpPr>
            <p:cNvPr id="330" name=""/>
            <p:cNvSpPr/>
            <p:nvPr/>
          </p:nvSpPr>
          <p:spPr>
            <a:xfrm>
              <a:off x="2209680" y="4495680"/>
              <a:ext cx="2667240" cy="9907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667960" y="4721760"/>
              <a:ext cx="137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nd ms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990720" y="2286000"/>
            <a:ext cx="15238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2514600" y="2282760"/>
            <a:ext cx="3657600" cy="825480"/>
            <a:chOff x="2514600" y="2282760"/>
            <a:chExt cx="3657600" cy="825480"/>
          </a:xfrm>
        </p:grpSpPr>
        <p:sp>
          <p:nvSpPr>
            <p:cNvPr id="334" name=""/>
            <p:cNvSpPr/>
            <p:nvPr/>
          </p:nvSpPr>
          <p:spPr>
            <a:xfrm flipH="1" flipV="1">
              <a:off x="2514600" y="2514240"/>
              <a:ext cx="365760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454200" y="2282760"/>
              <a:ext cx="2027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nd Location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pd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4800600" y="5257800"/>
            <a:ext cx="1066680" cy="99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022080" y="22071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107320" y="4874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068840" y="3883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401880" y="25120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068480" y="2282760"/>
            <a:ext cx="97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b -&gt; A</a:t>
            </a:r>
            <a:br>
              <a:rPr sz="2400"/>
            </a:b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a -&gt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296360" y="4187880"/>
            <a:ext cx="79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b</a:t>
            </a:r>
            <a:br>
              <a:rPr sz="2400"/>
            </a:b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a-&gt;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5867280" y="3352680"/>
            <a:ext cx="1224360" cy="2210040"/>
            <a:chOff x="5867280" y="3352680"/>
            <a:chExt cx="1224360" cy="2210040"/>
          </a:xfrm>
        </p:grpSpPr>
        <p:sp>
          <p:nvSpPr>
            <p:cNvPr id="344" name=""/>
            <p:cNvSpPr/>
            <p:nvPr/>
          </p:nvSpPr>
          <p:spPr>
            <a:xfrm flipH="1">
              <a:off x="5867280" y="3352680"/>
              <a:ext cx="914400" cy="2210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943240" y="4035960"/>
              <a:ext cx="114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igr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676520" y="3123720"/>
            <a:ext cx="4873320" cy="2896200"/>
            <a:chOff x="1676520" y="3123720"/>
            <a:chExt cx="4873320" cy="2896200"/>
          </a:xfrm>
        </p:grpSpPr>
        <p:grpSp>
          <p:nvGrpSpPr>
            <p:cNvPr id="347" name=""/>
            <p:cNvGrpSpPr/>
            <p:nvPr/>
          </p:nvGrpSpPr>
          <p:grpSpPr>
            <a:xfrm>
              <a:off x="2057040" y="3123720"/>
              <a:ext cx="3048480" cy="2210040"/>
              <a:chOff x="2057040" y="3123720"/>
              <a:chExt cx="3048480" cy="2210040"/>
            </a:xfrm>
          </p:grpSpPr>
          <p:sp>
            <p:nvSpPr>
              <p:cNvPr id="348" name=""/>
              <p:cNvSpPr/>
              <p:nvPr/>
            </p:nvSpPr>
            <p:spPr>
              <a:xfrm flipH="1" flipV="1">
                <a:off x="2057040" y="3123720"/>
                <a:ext cx="2895480" cy="22100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 flipV="1">
                <a:off x="2286000" y="3123720"/>
                <a:ext cx="2819520" cy="22100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514600" y="3807360"/>
                <a:ext cx="1477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etch add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5335920" y="3200040"/>
              <a:ext cx="1213920" cy="2133720"/>
              <a:chOff x="5335920" y="3200040"/>
              <a:chExt cx="1213920" cy="2133720"/>
            </a:xfrm>
          </p:grpSpPr>
          <p:sp>
            <p:nvSpPr>
              <p:cNvPr id="352" name=""/>
              <p:cNvSpPr/>
              <p:nvPr/>
            </p:nvSpPr>
            <p:spPr>
              <a:xfrm flipV="1">
                <a:off x="5562720" y="3200040"/>
                <a:ext cx="838080" cy="2133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335920" y="4493160"/>
                <a:ext cx="1213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orwar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1676520" y="5105520"/>
              <a:ext cx="3200400" cy="914400"/>
              <a:chOff x="1676520" y="5105520"/>
              <a:chExt cx="3200400" cy="914400"/>
            </a:xfrm>
          </p:grpSpPr>
          <p:sp>
            <p:nvSpPr>
              <p:cNvPr id="355" name=""/>
              <p:cNvSpPr/>
              <p:nvPr/>
            </p:nvSpPr>
            <p:spPr>
              <a:xfrm flipH="1" flipV="1">
                <a:off x="1676520" y="5105520"/>
                <a:ext cx="3200400" cy="9144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590560" y="5407560"/>
                <a:ext cx="1563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nvalid ad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Name Serving/Caching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esn’t require special infrastruct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ult toler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a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agents migrate frequently this solution takes too much overhe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need a nameserv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Name Serving/Caching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ssage send: t + (T+2t)m/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 to send mess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m/n of the ca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pdate nameserv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ward mess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pdate send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gent move: T + 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 to migrate ag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pdate nameserv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71200" y="981000"/>
            <a:ext cx="8163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Merging Nameserving &amp; Routing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1143000" y="5029200"/>
            <a:ext cx="1218960" cy="990720"/>
            <a:chOff x="1143000" y="5029200"/>
            <a:chExt cx="1218960" cy="990720"/>
          </a:xfrm>
        </p:grpSpPr>
        <p:sp>
          <p:nvSpPr>
            <p:cNvPr id="363" name=""/>
            <p:cNvSpPr/>
            <p:nvPr/>
          </p:nvSpPr>
          <p:spPr>
            <a:xfrm>
              <a:off x="1143000" y="5029200"/>
              <a:ext cx="1218960" cy="990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143000" y="5105520"/>
              <a:ext cx="1218960" cy="83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5" name=""/>
          <p:cNvSpPr/>
          <p:nvPr/>
        </p:nvSpPr>
        <p:spPr>
          <a:xfrm flipV="1">
            <a:off x="1981080" y="3885840"/>
            <a:ext cx="2057400" cy="121932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4038480" y="3200400"/>
            <a:ext cx="1828440" cy="990720"/>
            <a:chOff x="4038480" y="3200400"/>
            <a:chExt cx="1828440" cy="990720"/>
          </a:xfrm>
        </p:grpSpPr>
        <p:sp>
          <p:nvSpPr>
            <p:cNvPr id="367" name=""/>
            <p:cNvSpPr/>
            <p:nvPr/>
          </p:nvSpPr>
          <p:spPr>
            <a:xfrm>
              <a:off x="4038480" y="3200400"/>
              <a:ext cx="1828440" cy="990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038480" y="3276720"/>
              <a:ext cx="1828440" cy="83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5638680" y="4952880"/>
            <a:ext cx="1371240" cy="990720"/>
            <a:chOff x="5638680" y="4952880"/>
            <a:chExt cx="1371240" cy="990720"/>
          </a:xfrm>
        </p:grpSpPr>
        <p:sp>
          <p:nvSpPr>
            <p:cNvPr id="370" name=""/>
            <p:cNvSpPr/>
            <p:nvPr/>
          </p:nvSpPr>
          <p:spPr>
            <a:xfrm>
              <a:off x="5638680" y="4952880"/>
              <a:ext cx="1371240" cy="990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638680" y="5029200"/>
              <a:ext cx="1371240" cy="83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7086600" y="1905120"/>
            <a:ext cx="1066680" cy="990360"/>
            <a:chOff x="7086600" y="1905120"/>
            <a:chExt cx="1066680" cy="990360"/>
          </a:xfrm>
        </p:grpSpPr>
        <p:sp>
          <p:nvSpPr>
            <p:cNvPr id="373" name=""/>
            <p:cNvSpPr/>
            <p:nvPr/>
          </p:nvSpPr>
          <p:spPr>
            <a:xfrm>
              <a:off x="7086600" y="1905120"/>
              <a:ext cx="1066680" cy="99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086600" y="1981080"/>
              <a:ext cx="1066680" cy="837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7772400" y="3886200"/>
            <a:ext cx="1066680" cy="990720"/>
            <a:chOff x="7772400" y="3886200"/>
            <a:chExt cx="1066680" cy="990720"/>
          </a:xfrm>
        </p:grpSpPr>
        <p:sp>
          <p:nvSpPr>
            <p:cNvPr id="376" name=""/>
            <p:cNvSpPr/>
            <p:nvPr/>
          </p:nvSpPr>
          <p:spPr>
            <a:xfrm>
              <a:off x="7772400" y="3886200"/>
              <a:ext cx="1066680" cy="990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772400" y="3962520"/>
              <a:ext cx="1066680" cy="83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 flipV="1">
            <a:off x="5638680" y="2666880"/>
            <a:ext cx="1447920" cy="60984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8077320" y="2819520"/>
            <a:ext cx="533160" cy="114300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088760" y="1597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965040" y="2817000"/>
            <a:ext cx="67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Times New Roman"/>
              </a:rPr>
              <a:t>B.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470000" y="3578760"/>
            <a:ext cx="67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Times New Roman"/>
              </a:rPr>
              <a:t>C.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993600" y="4645800"/>
            <a:ext cx="9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Times New Roman"/>
              </a:rPr>
              <a:t>A.B.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069200" y="525528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A.B.D: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717520" y="4493160"/>
            <a:ext cx="9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Times New Roman"/>
              </a:rPr>
              <a:t>E.B.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3840" y="411228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C.D: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2362320" y="4114800"/>
            <a:ext cx="167616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5867280" y="2819520"/>
            <a:ext cx="12193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 flipV="1">
            <a:off x="5867280" y="411480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7695720" y="2895480"/>
            <a:ext cx="6858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2286000" y="3502800"/>
            <a:ext cx="4567680" cy="2135880"/>
            <a:chOff x="2286000" y="3502800"/>
            <a:chExt cx="4567680" cy="2135880"/>
          </a:xfrm>
        </p:grpSpPr>
        <p:sp>
          <p:nvSpPr>
            <p:cNvPr id="392" name=""/>
            <p:cNvSpPr/>
            <p:nvPr/>
          </p:nvSpPr>
          <p:spPr>
            <a:xfrm flipV="1">
              <a:off x="2286000" y="4114440"/>
              <a:ext cx="2057400" cy="12193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486400" y="4114800"/>
              <a:ext cx="304920" cy="9144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040280" y="3502800"/>
              <a:ext cx="182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00"/>
                  </a:solidFill>
                  <a:latin typeface="Times New Roman"/>
                </a:rPr>
                <a:t>A.B.D:b -&gt; 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641200" y="5178960"/>
              <a:ext cx="121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00"/>
                  </a:solidFill>
                  <a:latin typeface="Times New Roman"/>
                </a:rPr>
                <a:t>A.B.D: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71200" y="981000"/>
            <a:ext cx="8163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Merging Nameserving &amp; Routing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143000" y="5029200"/>
            <a:ext cx="1218960" cy="990720"/>
            <a:chOff x="1143000" y="5029200"/>
            <a:chExt cx="1218960" cy="990720"/>
          </a:xfrm>
        </p:grpSpPr>
        <p:sp>
          <p:nvSpPr>
            <p:cNvPr id="398" name=""/>
            <p:cNvSpPr/>
            <p:nvPr/>
          </p:nvSpPr>
          <p:spPr>
            <a:xfrm>
              <a:off x="1143000" y="5029200"/>
              <a:ext cx="1218960" cy="990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143000" y="5105520"/>
              <a:ext cx="1218960" cy="83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 flipV="1">
            <a:off x="1981080" y="3885840"/>
            <a:ext cx="2057400" cy="121932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4038480" y="3200400"/>
            <a:ext cx="1828440" cy="990720"/>
            <a:chOff x="4038480" y="3200400"/>
            <a:chExt cx="1828440" cy="990720"/>
          </a:xfrm>
        </p:grpSpPr>
        <p:sp>
          <p:nvSpPr>
            <p:cNvPr id="402" name=""/>
            <p:cNvSpPr/>
            <p:nvPr/>
          </p:nvSpPr>
          <p:spPr>
            <a:xfrm>
              <a:off x="4038480" y="3200400"/>
              <a:ext cx="1828440" cy="990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038480" y="3276720"/>
              <a:ext cx="1828440" cy="83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638680" y="4952880"/>
            <a:ext cx="1371240" cy="990720"/>
            <a:chOff x="5638680" y="4952880"/>
            <a:chExt cx="1371240" cy="990720"/>
          </a:xfrm>
        </p:grpSpPr>
        <p:sp>
          <p:nvSpPr>
            <p:cNvPr id="405" name=""/>
            <p:cNvSpPr/>
            <p:nvPr/>
          </p:nvSpPr>
          <p:spPr>
            <a:xfrm>
              <a:off x="5638680" y="4952880"/>
              <a:ext cx="1371240" cy="990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638680" y="5029200"/>
              <a:ext cx="1371240" cy="83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7086600" y="1905120"/>
            <a:ext cx="1066680" cy="990360"/>
            <a:chOff x="7086600" y="1905120"/>
            <a:chExt cx="1066680" cy="990360"/>
          </a:xfrm>
        </p:grpSpPr>
        <p:sp>
          <p:nvSpPr>
            <p:cNvPr id="408" name=""/>
            <p:cNvSpPr/>
            <p:nvPr/>
          </p:nvSpPr>
          <p:spPr>
            <a:xfrm>
              <a:off x="7086600" y="1905120"/>
              <a:ext cx="1066680" cy="99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086600" y="1981080"/>
              <a:ext cx="1066680" cy="837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7772400" y="3886200"/>
            <a:ext cx="1066680" cy="990720"/>
            <a:chOff x="7772400" y="3886200"/>
            <a:chExt cx="1066680" cy="990720"/>
          </a:xfrm>
        </p:grpSpPr>
        <p:sp>
          <p:nvSpPr>
            <p:cNvPr id="411" name=""/>
            <p:cNvSpPr/>
            <p:nvPr/>
          </p:nvSpPr>
          <p:spPr>
            <a:xfrm>
              <a:off x="7772400" y="3886200"/>
              <a:ext cx="1066680" cy="990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772400" y="3962520"/>
              <a:ext cx="1066680" cy="83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"/>
          <p:cNvSpPr/>
          <p:nvPr/>
        </p:nvSpPr>
        <p:spPr>
          <a:xfrm flipV="1">
            <a:off x="5638680" y="2666880"/>
            <a:ext cx="1447920" cy="60984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077320" y="2819520"/>
            <a:ext cx="533160" cy="114300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088760" y="1597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65040" y="2817000"/>
            <a:ext cx="67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Times New Roman"/>
              </a:rPr>
              <a:t>B.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470000" y="3578760"/>
            <a:ext cx="67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Times New Roman"/>
              </a:rPr>
              <a:t>C.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993600" y="4645800"/>
            <a:ext cx="9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Times New Roman"/>
              </a:rPr>
              <a:t>A.B.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17520" y="4493160"/>
            <a:ext cx="9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Times New Roman"/>
              </a:rPr>
              <a:t>E.B.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773840" y="411228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C.D: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2362320" y="4114800"/>
            <a:ext cx="167616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5867280" y="2819520"/>
            <a:ext cx="12193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 flipV="1">
            <a:off x="5867280" y="411480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 flipV="1">
            <a:off x="7695720" y="2895480"/>
            <a:ext cx="6858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2286000" y="3502800"/>
            <a:ext cx="4567680" cy="2135880"/>
            <a:chOff x="2286000" y="3502800"/>
            <a:chExt cx="4567680" cy="2135880"/>
          </a:xfrm>
        </p:grpSpPr>
        <p:sp>
          <p:nvSpPr>
            <p:cNvPr id="426" name=""/>
            <p:cNvSpPr/>
            <p:nvPr/>
          </p:nvSpPr>
          <p:spPr>
            <a:xfrm flipV="1">
              <a:off x="2286000" y="4114440"/>
              <a:ext cx="2057400" cy="12193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486400" y="4114800"/>
              <a:ext cx="304920" cy="9144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040280" y="3502800"/>
              <a:ext cx="182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00"/>
                  </a:solidFill>
                  <a:latin typeface="Times New Roman"/>
                </a:rPr>
                <a:t>A.B.D:b -&gt; 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641200" y="5178960"/>
              <a:ext cx="121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00"/>
                  </a:solidFill>
                  <a:latin typeface="Times New Roman"/>
                </a:rPr>
                <a:t>A.B.D: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71200" y="981000"/>
            <a:ext cx="8163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Merging Nameserving &amp; Routing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nds messages in O(t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nds agents in O(t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a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quires special ‘hierarchical’ architect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Performance Estimation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0" y="2057400"/>
            <a:ext cx="9144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9a0000"/>
                </a:solidFill>
                <a:latin typeface="Verdana"/>
              </a:rPr>
              <a:t>Message Send</a:t>
            </a:r>
            <a:r>
              <a:rPr b="0" lang="en-US" sz="2400" spc="-1" strike="noStrike">
                <a:solidFill>
                  <a:srgbClr val="9a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9a0000"/>
                </a:solidFill>
                <a:latin typeface="Verdana"/>
              </a:rPr>
              <a:t>Agent Mig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0000"/>
                </a:solidFill>
                <a:latin typeface="Verdana"/>
              </a:rPr>
              <a:t>      </a:t>
            </a:r>
            <a:r>
              <a:rPr b="0" lang="en-US" sz="2400" spc="-1" strike="noStrike">
                <a:solidFill>
                  <a:srgbClr val="9a0000"/>
                </a:solidFill>
                <a:latin typeface="Verdana"/>
              </a:rPr>
              <a:t>Forwardin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 + 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9a0000"/>
                </a:solidFill>
                <a:latin typeface="Verdana"/>
              </a:rPr>
              <a:t>Notfy partner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 + (C+1).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9a0000"/>
                </a:solidFill>
                <a:latin typeface="Verdana"/>
              </a:rPr>
              <a:t>NS &amp; Cachin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 + (T+2t).m/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 + 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9a0000"/>
                </a:solidFill>
                <a:latin typeface="Verdana"/>
              </a:rPr>
              <a:t>Notfy con pa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 + T.n/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 + (C+1).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9a0000"/>
                </a:solidFill>
                <a:latin typeface="Verdana"/>
              </a:rPr>
              <a:t>NS &amp; Routin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590920" y="1981080"/>
            <a:ext cx="0" cy="365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486400" y="1981080"/>
            <a:ext cx="0" cy="358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Future Work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rge the emerald system with our system to obtain a more reliable architecture to route messages i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62120" y="607680"/>
            <a:ext cx="816264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Verdana"/>
              </a:rPr>
              <a:t>Cborg</a:t>
            </a:r>
            <a:endParaRPr b="0" lang="en-US" sz="6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77440" y="2057040"/>
            <a:ext cx="8566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progwww.vub.ac.be/pools/cbor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rner.van.belle@vub.ac.b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arsten.verelst@vub.ac.b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jdhondt@vub.ac.b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Mobile Multi Agent System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pplication: interconnection of ag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de Area Networ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e grained component struct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requent migration of compon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Exampl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gent “tecra.vub.ac.be/ses1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:agent(“progpc20.vub.ac.be/disc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.calculate([[1,2],[3,4]],agentself()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gent “progpc20.vub.ac.be/disc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lculate(matrix,callback):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&lt;dosomething&gt;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llback.display(matrix);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Problem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ever an agent migrates its name chan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s name shouldn’t change 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t</a:t>
            </a:r>
            <a:br>
              <a:rPr sz="24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w do we route messages 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Forwarding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1600200" y="2362320"/>
            <a:ext cx="1066680" cy="9903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72200" y="2362320"/>
            <a:ext cx="106668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38280" y="5105520"/>
            <a:ext cx="106704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 flipV="1">
            <a:off x="2438280" y="3276720"/>
            <a:ext cx="533520" cy="18288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2895480"/>
            <a:ext cx="350532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248520" y="4191120"/>
            <a:ext cx="106668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659040" y="2435760"/>
            <a:ext cx="18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  ms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058480" y="4340880"/>
            <a:ext cx="13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 ms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22080" y="22071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02000" y="2054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174000" y="3960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11840" y="4950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401880" y="25120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829880" y="2435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668680" y="5255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Forwarding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362320"/>
            <a:ext cx="1066680" cy="9903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172200" y="2362320"/>
            <a:ext cx="106668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438280" y="5105520"/>
            <a:ext cx="106704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2438280" y="3276720"/>
            <a:ext cx="533520" cy="18288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666880" y="2895480"/>
            <a:ext cx="350532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248520" y="4191120"/>
            <a:ext cx="106668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659040" y="2435760"/>
            <a:ext cx="18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  ms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058480" y="4340880"/>
            <a:ext cx="13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 ms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2666880" y="2971440"/>
            <a:ext cx="4713840" cy="1523880"/>
            <a:chOff x="2666880" y="2971440"/>
            <a:chExt cx="4713840" cy="1523880"/>
          </a:xfrm>
        </p:grpSpPr>
        <p:grpSp>
          <p:nvGrpSpPr>
            <p:cNvPr id="185" name=""/>
            <p:cNvGrpSpPr/>
            <p:nvPr/>
          </p:nvGrpSpPr>
          <p:grpSpPr>
            <a:xfrm>
              <a:off x="6232320" y="3352680"/>
              <a:ext cx="1148400" cy="838440"/>
              <a:chOff x="6232320" y="3352680"/>
              <a:chExt cx="1148400" cy="838440"/>
            </a:xfrm>
          </p:grpSpPr>
          <p:sp>
            <p:nvSpPr>
              <p:cNvPr id="186" name=""/>
              <p:cNvSpPr/>
              <p:nvPr/>
            </p:nvSpPr>
            <p:spPr>
              <a:xfrm>
                <a:off x="6781680" y="3352680"/>
                <a:ext cx="0" cy="8384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232320" y="3396240"/>
                <a:ext cx="1148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Migrat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2666880" y="2971440"/>
              <a:ext cx="3657600" cy="1523880"/>
              <a:chOff x="2666880" y="2971440"/>
              <a:chExt cx="3657600" cy="1523880"/>
            </a:xfrm>
          </p:grpSpPr>
          <p:sp>
            <p:nvSpPr>
              <p:cNvPr id="189" name=""/>
              <p:cNvSpPr/>
              <p:nvPr/>
            </p:nvSpPr>
            <p:spPr>
              <a:xfrm flipH="1" flipV="1">
                <a:off x="2666880" y="2971440"/>
                <a:ext cx="3657600" cy="15238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885480" y="3425760"/>
                <a:ext cx="18511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end location</a:t>
                </a:r>
                <a:br>
                  <a:rPr sz="2400"/>
                </a:b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pdat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1" name=""/>
          <p:cNvSpPr/>
          <p:nvPr/>
        </p:nvSpPr>
        <p:spPr>
          <a:xfrm>
            <a:off x="6022080" y="22071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602000" y="2054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174000" y="3960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211840" y="4950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78200" y="43408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829880" y="2435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668680" y="5255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Forwarding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asy implemen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gging is eas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a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cation is slowed dow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racting agent clusters are slow when migra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Forwarding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ssage send: 2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 over network to reach home lo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 over network to reach real lo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gent move: T + 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 over network to inform home lo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 over network to migrate to new (nearby) pos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0T13:12:40Z</dcterms:created>
  <dc:creator>Werner Van Belle</dc:creator>
  <dc:description/>
  <dc:language>en-US</dc:language>
  <cp:lastModifiedBy>Werner Van Belle</cp:lastModifiedBy>
  <dcterms:modified xsi:type="dcterms:W3CDTF">1999-12-22T06:35:51Z</dcterms:modified>
  <cp:revision>8</cp:revision>
  <dc:subject/>
  <dc:title> Location Transparent Routing in Mobile Agent Systems </dc:title>
</cp:coreProperties>
</file>